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5.wmf" ContentType="image/x-wmf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5.wmf" ContentType="image/x-wmf"/>
  <Override PartName="/ppt/media/image35.wmf" ContentType="image/x-wmf"/>
  <Override PartName="/ppt/media/image42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wmf" ContentType="image/x-wmf"/>
  <Override PartName="/ppt/media/image45.wmf" ContentType="image/x-wmf"/>
  <Override PartName="/ppt/media/image46.png" ContentType="image/png"/>
  <Override PartName="/ppt/media/image47.wmf" ContentType="image/x-wmf"/>
  <Override PartName="/ppt/media/image40.png" ContentType="image/png"/>
  <Override PartName="/ppt/media/image48.png" ContentType="image/png"/>
  <Override PartName="/ppt/media/image51.wmf" ContentType="image/x-wmf"/>
  <Override PartName="/ppt/media/image49.wmf" ContentType="image/x-wmf"/>
  <Override PartName="/ppt/media/image52.png" ContentType="image/png"/>
  <Override PartName="/ppt/media/image13.wmf" ContentType="image/x-wmf"/>
  <Override PartName="/ppt/media/image31.wmf" ContentType="image/x-wmf"/>
  <Override PartName="/ppt/media/image28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26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png" ContentType="image/png"/>
  <Override PartName="/ppt/media/image41.wmf" ContentType="image/x-wmf"/>
  <Override PartName="/ppt/media/image8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8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0B6BCC4-850B-4A42-954E-75DADD64E5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8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793-30A9-4A65-BA21-01B11D3B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61A-40C1-4F33-81C4-EAEADEEA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835-7BDD-4492-A25C-F504503F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466-4EA5-4F34-A0CF-3A6C8564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DDC-D167-4583-BFD7-FE80A415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405-1A43-4DD5-9498-52067418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8CE-89DB-42C7-99D0-240EAAB4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1D9-765A-417E-A1D0-7C200D06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408-5D3A-410A-835B-6FB5A57B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FAF-B143-4FDC-8A2E-2EF8D2B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1C9-09D5-471A-B775-999F4A5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792-B569-4F2A-B5C5-C5FD8D2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048C-ABC5-4CC9-9A09-72B85849CEC4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19640" y="14922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SafeSeaNet Workshop n</a:t>
            </a:r>
            <a:r>
              <a:rPr b="1" lang="en-US" sz="2400" spc="-1" strike="noStrike" baseline="30000">
                <a:solidFill>
                  <a:srgbClr val="0078c7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220500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8c7"/>
                </a:solidFill>
                <a:latin typeface="Verdana"/>
              </a:rPr>
              <a:t>SSN 11/4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tatus at Nat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1080" y="6165720"/>
            <a:ext cx="46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71"/>
                </a:solidFill>
                <a:latin typeface="Verdana"/>
              </a:rPr>
              <a:t>Lisbon | 11 &amp; 12 Jun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540-EA9E-4EA2-9CA7-2E99AA36200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526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Denmark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568440" cy="43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9800" y="3467160"/>
            <a:ext cx="532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2146320"/>
          <a:ext cx="5145120" cy="1092240"/>
        </p:xfrm>
        <a:graphic>
          <a:graphicData uri="http://schemas.openxmlformats.org/drawingml/2006/table">
            <a:tbl>
              <a:tblPr/>
              <a:tblGrid>
                <a:gridCol w="489240"/>
                <a:gridCol w="72360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65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rcRect l="2652" t="0" r="1326" b="0"/>
          <a:stretch/>
        </p:blipFill>
        <p:spPr>
          <a:xfrm>
            <a:off x="433440" y="3933720"/>
            <a:ext cx="780876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67E-6474-4C46-99F1-D084CB94AB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526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Denmark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56844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539640" y="2774880"/>
          <a:ext cx="7777440" cy="2919600"/>
        </p:xfrm>
        <a:graphic>
          <a:graphicData uri="http://schemas.openxmlformats.org/drawingml/2006/table">
            <a:tbl>
              <a:tblPr/>
              <a:tblGrid>
                <a:gridCol w="1730520"/>
                <a:gridCol w="60469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),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lem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is very 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. Some locations to be clar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from BELTREP are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 exchan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fo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Feb 09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96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jected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s “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xtPortOfCall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” attribute is mis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0%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 the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do not comply with Directive 2002/59/EC as they are sent after vessel’s arrival at 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entAt&gt;ET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6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pril 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160-B24C-482B-8091-85E9D84BCC0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76480" y="1179360"/>
            <a:ext cx="28717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Eston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741600" cy="47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9800" y="3467160"/>
            <a:ext cx="532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2146320"/>
          <a:ext cx="5145120" cy="1092240"/>
        </p:xfrm>
        <a:graphic>
          <a:graphicData uri="http://schemas.openxmlformats.org/drawingml/2006/table">
            <a:tbl>
              <a:tblPr/>
              <a:tblGrid>
                <a:gridCol w="489240"/>
                <a:gridCol w="72360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665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rcRect l="3537" t="0" r="0" b="0"/>
          <a:stretch/>
        </p:blipFill>
        <p:spPr>
          <a:xfrm>
            <a:off x="468360" y="3908520"/>
            <a:ext cx="784224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4A6-2118-4EB6-8794-89AD5094E8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76480" y="1179360"/>
            <a:ext cx="28717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Eston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741600" cy="47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8360" y="2962440"/>
          <a:ext cx="7848360" cy="2554200"/>
        </p:xfrm>
        <a:graphic>
          <a:graphicData uri="http://schemas.openxmlformats.org/drawingml/2006/table">
            <a:tbl>
              <a:tblPr/>
              <a:tblGrid>
                <a:gridCol w="1830600"/>
                <a:gridCol w="601776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 (AIS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peration since mid April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,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Ship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lerts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mplem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 requests made to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not declared in SS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p detected in the 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provided in April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from GOFREP are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 exchanged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fo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Apr 09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are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jec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ue to invalid latitude provided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660-2701-4682-B096-5A730CDA4C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768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Finland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709560" cy="433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41440" y="2146320"/>
          <a:ext cx="5145120" cy="1092240"/>
        </p:xfrm>
        <a:graphic>
          <a:graphicData uri="http://schemas.openxmlformats.org/drawingml/2006/table">
            <a:tbl>
              <a:tblPr/>
              <a:tblGrid>
                <a:gridCol w="489240"/>
                <a:gridCol w="72360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458640" y="3836880"/>
            <a:ext cx="778536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AA7-3742-43DA-9580-76B654DD5BF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768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Finland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709560" cy="43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68360" y="2678040"/>
          <a:ext cx="7848720" cy="3305160"/>
        </p:xfrm>
        <a:graphic>
          <a:graphicData uri="http://schemas.openxmlformats.org/drawingml/2006/table">
            <a:tbl>
              <a:tblPr/>
              <a:tblGrid>
                <a:gridCol w="1727280"/>
                <a:gridCol w="61214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),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lem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number of requests made to SSN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. Some locations to be clar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Ga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tected in the 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provided in May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ge of AIS dat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 below the calculated theoretical range for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from GOFREP are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 exchan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but is planned to be implemented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of Port notifications is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9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Apr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6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tails in Apr 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unnecessary duplicate notifications and rejected messages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report sent on 27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May 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FBF-D1EE-4827-A9E5-C5F65E0F7BE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09520" y="1103400"/>
            <a:ext cx="287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France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9800" y="1128600"/>
            <a:ext cx="647640" cy="43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1440" y="2146320"/>
          <a:ext cx="5145120" cy="109224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rcRect l="2652" t="0" r="1326" b="0"/>
          <a:stretch/>
        </p:blipFill>
        <p:spPr>
          <a:xfrm>
            <a:off x="433440" y="3860640"/>
            <a:ext cx="781056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E8E-859C-423E-97BE-61F425E5CCF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9520" y="1103400"/>
            <a:ext cx="287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France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9800" y="1128600"/>
            <a:ext cx="64764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468360" y="2714760"/>
          <a:ext cx="7848720" cy="3711600"/>
        </p:xfrm>
        <a:graphic>
          <a:graphicData uri="http://schemas.openxmlformats.org/drawingml/2006/table">
            <a:tbl>
              <a:tblPr/>
              <a:tblGrid>
                <a:gridCol w="1830240"/>
                <a:gridCol w="60184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MRS),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operatio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in operation since end of May 09 even though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commiss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is very low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e declared in SSN. Some locations to be clar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 CALDOVREP, OFF LE CASQUETS, OUESSREP &amp; BONIFREP exchanged in Mar 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of Port notifications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Mar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fo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Mar 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 in Mar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45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are sent with ETA-ETD relationship not applied correctly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TA&lt;ET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 SSN v1.9.1 will reject this mess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unnecessary duplicate notifications and rejected messages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June 20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6D9-BD36-4E62-AEF3-1061EA406A6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5740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Germany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719280" cy="430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1440" y="2146320"/>
          <a:ext cx="5145120" cy="109224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426960" y="3817800"/>
            <a:ext cx="779328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12B-2F48-4A2B-AEC4-FEC768A331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5740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Germany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71928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68360" y="2971800"/>
          <a:ext cx="7920000" cy="2392200"/>
        </p:xfrm>
        <a:graphic>
          <a:graphicData uri="http://schemas.openxmlformats.org/drawingml/2006/table">
            <a:tbl>
              <a:tblPr/>
              <a:tblGrid>
                <a:gridCol w="1847880"/>
                <a:gridCol w="60721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is very low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. Some locations to be clar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Mar 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8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 in Mar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unnecessary duplicate notifications and rejected messages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May 2009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9AE-6C24-439C-8516-D9FD18E9437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804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78c7"/>
                </a:solidFill>
                <a:latin typeface="Verdana"/>
              </a:rPr>
              <a:t>Introd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1400" y="1844640"/>
            <a:ext cx="77882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0078c7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This document presents a summary of 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EMSA assessment</a:t>
            </a: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 on SSN implementation and operation at National level based on the 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02b71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SafeSeaNet Status Report</a:t>
            </a: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,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ent to each Member State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since January 200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0078c7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Structure of presentation is as follow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9800" indent="-380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9800" indent="-380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Notifications pattern for Port, Hazmat &amp; Ship (n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9800" indent="-380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EMSA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06676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71"/>
                </a:solidFill>
                <a:latin typeface="Verdana"/>
              </a:rPr>
              <a:t>System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6676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71"/>
                </a:solidFill>
                <a:latin typeface="Verdana"/>
              </a:rPr>
              <a:t>Notification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6676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71"/>
                </a:solidFill>
                <a:latin typeface="Verdana"/>
              </a:rPr>
              <a:t>Data avail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6676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71"/>
                </a:solidFill>
                <a:latin typeface="Verdana"/>
              </a:rPr>
              <a:t>Data quality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6676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71"/>
                </a:solidFill>
                <a:latin typeface="Verdana"/>
              </a:rPr>
              <a:t>MS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9800" indent="-380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266-B3C4-4741-9FFE-EB27109516B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9548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Greece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41440" y="2146320"/>
          <a:ext cx="5145120" cy="109224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434880" y="3922560"/>
            <a:ext cx="7737480" cy="253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427-4FBC-49C5-AF3C-F4AE0176889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9548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Greece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68360" y="2843280"/>
          <a:ext cx="7775640" cy="2574720"/>
        </p:xfrm>
        <a:graphic>
          <a:graphicData uri="http://schemas.openxmlformats.org/drawingml/2006/table">
            <a:tbl>
              <a:tblPr/>
              <a:tblGrid>
                <a:gridCol w="1730160"/>
                <a:gridCol w="60454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Ale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operation since Mar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is very low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did not cover all coast in Apr 09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of Port notifications is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6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Apr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Apr 09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95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 in Apr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unnecessary duplicate notifications and rejected messages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.A.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558-90D6-4098-A13A-57AB30A03FC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57320" y="108432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Iceland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9800" y="1119240"/>
            <a:ext cx="596880" cy="43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41440" y="2146320"/>
          <a:ext cx="5145120" cy="109224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69696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395280" y="3860640"/>
            <a:ext cx="7731000" cy="252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DED-DF94-4590-8E45-29FAB75485F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57320" y="108432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Iceland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9800" y="1119240"/>
            <a:ext cx="59688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539640" y="2565360"/>
          <a:ext cx="7848720" cy="3708360"/>
        </p:xfrm>
        <a:graphic>
          <a:graphicData uri="http://schemas.openxmlformats.org/drawingml/2006/table">
            <a:tbl>
              <a:tblPr/>
              <a:tblGrid>
                <a:gridCol w="1830600"/>
                <a:gridCol w="60181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 &amp; M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implemented but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rovi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is very low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 in Feb 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fo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Feb 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POB in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in Feb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unnecessary duplicate notifications and rejected messages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celand has 27 AIS stations installed and expects to increase to 32. A list of stations will be provided to EMSA to keep updated the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ore-Based Traffic Monitoring Infrastructure Database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STMI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from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pr 2009, SSN is the only reporting tool accepted by the Maritime Traffic Service (MTS). NCA will enforce MTS and ports to use SSN in their routine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Alert Distribution tool will start to provide alert messages to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3AA-F88E-426F-B643-FBCEBE93ADB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5280" y="1141560"/>
            <a:ext cx="287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Ireland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863640" cy="431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41440" y="214632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2652" t="0" r="1326" b="0"/>
          <a:stretch/>
        </p:blipFill>
        <p:spPr>
          <a:xfrm>
            <a:off x="468360" y="3860640"/>
            <a:ext cx="780552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F72-7957-417C-89AF-98BF5C4224E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5280" y="1141560"/>
            <a:ext cx="287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Ireland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863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468360" y="2725560"/>
          <a:ext cx="7848720" cy="2574720"/>
        </p:xfrm>
        <a:graphic>
          <a:graphicData uri="http://schemas.openxmlformats.org/drawingml/2006/table">
            <a:tbl>
              <a:tblPr/>
              <a:tblGrid>
                <a:gridCol w="1730160"/>
                <a:gridCol w="611856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is very low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clared in SSN. Ongoing ta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 in Mar 09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rovements regarding the transmission of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Mar 09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rovements on the POB declared in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in Feb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jec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s ETA is missing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May 2009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880-AA9D-4573-A101-4A418F5AB55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04840" y="108432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Italy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9800" y="111924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41440" y="214632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rcRect l="2652" t="0" r="1326" b="0"/>
          <a:stretch/>
        </p:blipFill>
        <p:spPr>
          <a:xfrm>
            <a:off x="468360" y="3860640"/>
            <a:ext cx="780552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640-360A-40B6-A130-F98ABFB878A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4840" y="108432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Italy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9800" y="1119240"/>
            <a:ext cx="647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468360" y="2565360"/>
          <a:ext cx="7848720" cy="3687840"/>
        </p:xfrm>
        <a:graphic>
          <a:graphicData uri="http://schemas.openxmlformats.org/drawingml/2006/table">
            <a:tbl>
              <a:tblPr/>
              <a:tblGrid>
                <a:gridCol w="1730160"/>
                <a:gridCol w="611856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MRS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has increased but is still low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e declared in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did not cover all coast in Jan 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exchanged for the BONIFREP &amp; ADRIREP in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fo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50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 in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jected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messages due to duplicate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SRef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35%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 the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do not comply with Directive 2002/59/EC as they are sent after vessel’s arrival at 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entAt&gt;ET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40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Hazmat notifications sent with ETA-ETD relationship not applied correctly (ETA&lt;ETD) in Apr 09. SSN v.1.9.1 will reject those mess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talian SSN will be connected to the existing automatic systems VTMIS and Port Management and Information System (PMI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IS stations all operational even though experiencing small fail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going upgrade on data availability and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B8C-6D6F-441D-B368-1A68E13263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04920" y="115092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Latv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84120" y="1176480"/>
            <a:ext cx="863640" cy="431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41440" y="214632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rcRect l="2652" t="0" r="1326" b="0"/>
          <a:stretch/>
        </p:blipFill>
        <p:spPr>
          <a:xfrm>
            <a:off x="372960" y="3860640"/>
            <a:ext cx="7799400" cy="254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DE1-EF99-405C-A4A5-5D66C147DAA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04920" y="115092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Latv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4120" y="1176480"/>
            <a:ext cx="863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468360" y="3114720"/>
          <a:ext cx="7848360" cy="2606760"/>
        </p:xfrm>
        <a:graphic>
          <a:graphicData uri="http://schemas.openxmlformats.org/drawingml/2006/table">
            <a:tbl>
              <a:tblPr/>
              <a:tblGrid>
                <a:gridCol w="1830600"/>
                <a:gridCol w="601776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is very low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e declared in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 in Feb 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rovements regarding the transmission of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in Feb 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of details in 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Feb 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POB in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in Feb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rejected mess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3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March 20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B10-750F-4B78-BA6A-5221845D408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0" t="6820" r="2961" b="5766"/>
          <a:stretch/>
        </p:blipFill>
        <p:spPr>
          <a:xfrm>
            <a:off x="1258920" y="1557360"/>
            <a:ext cx="6481800" cy="48877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" name=""/>
          <p:cNvSpPr/>
          <p:nvPr/>
        </p:nvSpPr>
        <p:spPr>
          <a:xfrm>
            <a:off x="1403280" y="870120"/>
            <a:ext cx="633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Status of SS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89440" y="6238800"/>
            <a:ext cx="48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71"/>
                </a:solidFill>
                <a:latin typeface="Verdana"/>
              </a:rPr>
              <a:t>Updated: 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4EB-DB90-4B00-AA2A-75F24751D01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00160" y="115092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Lithuan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41440" y="214632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468360" y="3860640"/>
            <a:ext cx="778824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E36-A8EF-405C-B534-270B7B632A7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00160" y="115092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Lithuan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468360" y="2739960"/>
          <a:ext cx="7848720" cy="2916360"/>
        </p:xfrm>
        <a:graphic>
          <a:graphicData uri="http://schemas.openxmlformats.org/drawingml/2006/table">
            <a:tbl>
              <a:tblPr/>
              <a:tblGrid>
                <a:gridCol w="1830240"/>
                <a:gridCol w="60184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not used for routine or daily operations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e declared in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 in Jan 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of Port notifications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6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of details in 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&amp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Jan 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rejected mess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Ship 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are provided with attribute “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xtPortOfCall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” ZZUK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5%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 the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do not comply with Directive 2002/59/EC as they are sent after vessel’s arrival at 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entAt&gt;ET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thuanian Maritime Administration will take all necessary actions to correct the issues repor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F3B-C3AD-47D1-9C87-53D975818FF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048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Malt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41440" y="214632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rcRect l="2652" t="0" r="1326" b="0"/>
          <a:stretch/>
        </p:blipFill>
        <p:spPr>
          <a:xfrm>
            <a:off x="438120" y="3836880"/>
            <a:ext cx="780588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CB6-9F8E-4FE5-8DCF-CA73861781D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048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Malt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468360" y="2637000"/>
          <a:ext cx="7920000" cy="3101760"/>
        </p:xfrm>
        <a:graphic>
          <a:graphicData uri="http://schemas.openxmlformats.org/drawingml/2006/table">
            <a:tbl>
              <a:tblPr/>
              <a:tblGrid>
                <a:gridCol w="1847880"/>
                <a:gridCol w="60721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 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not used for routine or daily operations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 in Jan 09 however the range of AIS dat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 limited to 12Nm which is below the calculated theoretical range for stations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Dec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of Ship (AIS) details has improved to 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POB in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in Dec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all messages provided were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jec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95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sent with ETA-ETD relationship not applied correctly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TA&lt;ET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in Apr 09. SSN v1.9.1 will reject these messages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17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February 20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972-1A95-416B-A0B2-70A98C21016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0440" y="1052640"/>
            <a:ext cx="3121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Netherlands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9800" y="1125360"/>
            <a:ext cx="647640" cy="432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41440" y="214632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683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395280" y="3836880"/>
            <a:ext cx="778824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36C-461B-478D-902E-2585D08318A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90440" y="1052640"/>
            <a:ext cx="3121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Netherlands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9800" y="1125360"/>
            <a:ext cx="64764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468360" y="2781360"/>
          <a:ext cx="7920000" cy="3463920"/>
        </p:xfrm>
        <a:graphic>
          <a:graphicData uri="http://schemas.openxmlformats.org/drawingml/2006/table">
            <a:tbl>
              <a:tblPr/>
              <a:tblGrid>
                <a:gridCol w="1847880"/>
                <a:gridCol w="60721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 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not used for routine or daily operations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ts that provided notifications in Jan 09 were less than the LCAs decla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 and the rate of transmission is in some cases up to 1-10 min per single ves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,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0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 in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unnecessary duplicate notifications and rejected mess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30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sent with ETA-ETD relationship not applied correctly 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TA&lt;ETD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 SSN v1.9.1 will reject these messages</a:t>
                      </a: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utch Single Point of Contact will be operational and providing all notifications via XML by end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going corrections to improve the data quality including the checks that will be done at LCAs application level</a:t>
                      </a:r>
                      <a:r>
                        <a:rPr b="0" lang="pt-PT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3F9-86B7-4D2E-8852-3C49F685E9D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6200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Norway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590760" cy="431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41440" y="219060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68360" y="181764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395280" y="3797280"/>
            <a:ext cx="8129520" cy="265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F39-8A8F-49F3-B240-BA4622FDD6A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6200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Norway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59076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68360" y="2790720"/>
          <a:ext cx="7920000" cy="3301920"/>
        </p:xfrm>
        <a:graphic>
          <a:graphicData uri="http://schemas.openxmlformats.org/drawingml/2006/table">
            <a:tbl>
              <a:tblPr/>
              <a:tblGrid>
                <a:gridCol w="1847880"/>
                <a:gridCol w="60721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rovided (though commission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is used for routine and daily operations. Requests made via XML</a:t>
                      </a: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ll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LCA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. (Ongoing proce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of Port notifications is 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70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Feb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for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Feb 09</a:t>
                      </a: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or issues regarding the data quality of the information transmitted (Port &amp; Hazm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80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Ship (AIS) provided with attribute “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xtPortOfCall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” ZZUKN</a:t>
                      </a:r>
                      <a:r>
                        <a:rPr b="1" lang="pt-PT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rther progress has been made to the development of SSN towards a national Single Window 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As designation is an ongoing task expected to be completed in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 test purposes Alerts will start to be sent mid 2009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69F-0AC2-452A-92CC-6C9B50D5E3F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5740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Poland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90840" cy="431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41440" y="219060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468360" y="181764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03200" y="3908520"/>
            <a:ext cx="812952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B09-FF13-4F33-B7E0-EC085464CCF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5740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Poland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908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68360" y="2924280"/>
          <a:ext cx="7920000" cy="2371680"/>
        </p:xfrm>
        <a:graphic>
          <a:graphicData uri="http://schemas.openxmlformats.org/drawingml/2006/table">
            <a:tbl>
              <a:tblPr/>
              <a:tblGrid>
                <a:gridCol w="1727280"/>
                <a:gridCol w="61927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RS)</a:t>
                      </a: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Alert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not used for routine or daily operations</a:t>
                      </a:r>
                      <a:r>
                        <a:rPr b="0" lang="pt-PT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ts that provided notifications in Jan 09 were less than the LCAs decla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 and Ship (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exchanged for the GDANREP in Dec 08</a:t>
                      </a:r>
                      <a:r>
                        <a:rPr b="1" lang="pt-PT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Feb 09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or issues regarding the data quality of the information transmitted (Port &amp; Hazmat)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17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February 2009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419400"/>
                <a:gridCol w="46332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CCA-1105-4332-994E-97E42255424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66760" y="1152360"/>
            <a:ext cx="28717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Belgium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00" y="117792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9800" y="3467160"/>
            <a:ext cx="532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2146320"/>
          <a:ext cx="5040360" cy="109224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53028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665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468360" y="3860640"/>
            <a:ext cx="778824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C73-CE00-49BA-9758-FE00095D803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48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Portugal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41440" y="226368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68360" y="189072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95280" y="3836880"/>
            <a:ext cx="812952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9DE-78A8-406C-96DD-CF94EC6C19D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048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Portugal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468360" y="2708280"/>
          <a:ext cx="7920000" cy="3335400"/>
        </p:xfrm>
        <a:graphic>
          <a:graphicData uri="http://schemas.openxmlformats.org/drawingml/2006/table">
            <a:tbl>
              <a:tblPr/>
              <a:tblGrid>
                <a:gridCol w="1582560"/>
                <a:gridCol w="63374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Aler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hip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 still pending on implementation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commissioning test planned for 20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are provided in the form of contact details (phone &amp; fa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not used for routine or daily operations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ts that provided notifications in Jan 09 were less than the LCAs decla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is not yet provided &amp; Ship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 COPREP a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 exchang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transmission of Port notifications is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tails only 10% available in Jan 09. Ongoing improvemen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5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 in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sent with ETA-ETD relationship not applied correctly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TA&lt;ET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 SSN v1.9.1 will reject these messag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March 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419400"/>
                <a:gridCol w="46332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5D6-3B4F-4B39-81D1-1059F94394F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0526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Roman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41440" y="226368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468360" y="189072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30120" y="3908520"/>
            <a:ext cx="812952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164-CAE9-4650-B010-5974C8A87DF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0526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Roman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468360" y="2989440"/>
          <a:ext cx="7920000" cy="2384280"/>
        </p:xfrm>
        <a:graphic>
          <a:graphicData uri="http://schemas.openxmlformats.org/drawingml/2006/table">
            <a:tbl>
              <a:tblPr/>
              <a:tblGrid>
                <a:gridCol w="1582560"/>
                <a:gridCol w="63374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, Hazmat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Aler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in operation since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is used automatically for routine and daily operations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ts that provided notifications in Feb 09 were less than the LCAs decla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did not cover all coast in Mar 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fo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Feb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or issues regarding the data quality of the information transmitted (Port &amp; Hazmat)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3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March 20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419400"/>
                <a:gridCol w="46332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35B-81FC-4580-A3E0-495FD4942ED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1436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Sloven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871560" cy="436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71600" y="346716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41440" y="226368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468360" y="189072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30120" y="3933720"/>
            <a:ext cx="812952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757-FAEE-41ED-BAD2-8C1065A94C0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1436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Sloven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87156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"/>
          <p:cNvGraphicFramePr/>
          <p:nvPr/>
        </p:nvGraphicFramePr>
        <p:xfrm>
          <a:off x="468360" y="2997360"/>
          <a:ext cx="7920000" cy="2566800"/>
        </p:xfrm>
        <a:graphic>
          <a:graphicData uri="http://schemas.openxmlformats.org/drawingml/2006/table">
            <a:tbl>
              <a:tblPr/>
              <a:tblGrid>
                <a:gridCol w="1582560"/>
                <a:gridCol w="63374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, Hazmat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Aler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in operation via XML since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not used for routine or daily operations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ts that provided notifications in Feb 09 were less than the LCAs decla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mited number of Ship (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exchanged for ADRIREP in Feb 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fo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Feb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sent with ETA-ETD relationship not applied correctly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TA&lt;ET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 SSN v1.9.1 will reject these messag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pril 20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419400"/>
                <a:gridCol w="46332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911-A101-49BD-8947-255F9685A71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048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Spain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55560" cy="436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71600" y="353844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41440" y="2263680"/>
          <a:ext cx="5145120" cy="109368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68360" y="189072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30120" y="3908520"/>
            <a:ext cx="812952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585-A071-4BFB-A003-411CDEA2441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048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Spain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5556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468360" y="2984400"/>
          <a:ext cx="7920000" cy="2749320"/>
        </p:xfrm>
        <a:graphic>
          <a:graphicData uri="http://schemas.openxmlformats.org/drawingml/2006/table">
            <a:tbl>
              <a:tblPr/>
              <a:tblGrid>
                <a:gridCol w="1582560"/>
                <a:gridCol w="63374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RS), Hazmat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Aler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hip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is still pending on implementation (no date for commissioning tes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not used for routine or daily operations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ts that provided notifications in Jan 09 were less than the LCAs decla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exchanged for the FINREP and GIBREP syste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Jan 09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provided without POB in Jan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– report sent on 2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January 200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419400"/>
                <a:gridCol w="46332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199-DE18-4336-9ABF-B5D5A6ED179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3832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Sweden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95520" cy="43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534960" y="2222640"/>
          <a:ext cx="5040360" cy="109224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22360"/>
                <a:gridCol w="53028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374760" y="348624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5520" y="182880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461880" y="3905280"/>
            <a:ext cx="778824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984-8A05-4D36-90F7-16A68C5B257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3832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Sweden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95520" cy="43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4159080" y="1158840"/>
          <a:ext cx="450720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58640"/>
                <a:gridCol w="522360"/>
                <a:gridCol w="446040"/>
                <a:gridCol w="635040"/>
                <a:gridCol w="45900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69696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68360" y="2552760"/>
          <a:ext cx="7920000" cy="3646440"/>
        </p:xfrm>
        <a:graphic>
          <a:graphicData uri="http://schemas.openxmlformats.org/drawingml/2006/table">
            <a:tbl>
              <a:tblPr/>
              <a:tblGrid>
                <a:gridCol w="1582560"/>
                <a:gridCol w="63374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), Hazmat</a:t>
                      </a: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&amp;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Aler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hip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request/response is still pending on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not used for routine or daily operations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. Some locations to be clarified (identification of LCAs in SSN has been agreed in WS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not transmitted within the two hour interval in Dec 08 as requested in the SSN Interface Control Document (ICD)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transmission of Port notifications is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Dec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rovements regarding the availability of Ship &amp; Haz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4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 in Dec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Alert Distribution tool will be used for providing ale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missioning tests for request / response messages for Ship and Hazmat planned for mid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ue to a technical issue Sweden is not able to send AIS data two in two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going improvements regarding data availability and quality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83F-A833-4B3A-AF25-74E5FE43089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708280"/>
          <a:ext cx="7772400" cy="3602160"/>
        </p:xfrm>
        <a:graphic>
          <a:graphicData uri="http://schemas.openxmlformats.org/drawingml/2006/table">
            <a:tbl>
              <a:tblPr/>
              <a:tblGrid>
                <a:gridCol w="1712880"/>
                <a:gridCol w="6059520"/>
              </a:tblGrid>
              <a:tr h="347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,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is very 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AIS) notifications cover all co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tails in Feb 0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rovements in the POB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 Ongoing upgrade to correct this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unnecessary duplicate notifications and rejected messag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will increase as soon as SSN provides for the actual ship voyage (expecting new SSN vers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lgian system performs regular requests to SSN in order to monitor the connection and assess the availability and quality of the messages provided by the LC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1600" y="117792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66760" y="1152360"/>
            <a:ext cx="28717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Belgium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685-A8B0-454D-BA49-AB2C7955B45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95280" y="1141560"/>
            <a:ext cx="3997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United Kingdom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866880" cy="4316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25520" y="182880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4960" y="2222640"/>
          <a:ext cx="5106960" cy="1092240"/>
        </p:xfrm>
        <a:graphic>
          <a:graphicData uri="http://schemas.openxmlformats.org/drawingml/2006/table">
            <a:tbl>
              <a:tblPr/>
              <a:tblGrid>
                <a:gridCol w="488880"/>
                <a:gridCol w="723960"/>
                <a:gridCol w="438120"/>
                <a:gridCol w="588960"/>
                <a:gridCol w="53028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69696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74760" y="3486240"/>
            <a:ext cx="532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465120" y="3860640"/>
            <a:ext cx="778824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15A-29E1-4A0C-BF3F-C06BB29ADBA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8360" y="2637000"/>
          <a:ext cx="7920000" cy="3649680"/>
        </p:xfrm>
        <a:graphic>
          <a:graphicData uri="http://schemas.openxmlformats.org/drawingml/2006/table">
            <a:tbl>
              <a:tblPr/>
              <a:tblGrid>
                <a:gridCol w="1582920"/>
                <a:gridCol w="63370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(AIS), Hazmat &amp; Aler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hip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implemented but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rovi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requests made to SSN is very low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ts that provided notifications in Dec 08 were less than the LCAs decla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MR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from CALDOVREP are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xchanged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of Port notifications is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6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Dec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vailability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Dec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details not available. Ongoing correc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80%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provided without POB in Dec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rovements in the number of rejected messages (from 80% to 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0%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 the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do not comply with Directive 2002/59/EC as they are sent after vessel’s arrival at 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entAt&gt;ET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50%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sent with ETA-ETD relationship no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plied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rrectly 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TA&lt;ETD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SN v1.9.1 will reject these messages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ort sent on 9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February 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1181160" y="1055520"/>
            <a:ext cx="3997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8c7"/>
                </a:solidFill>
                <a:latin typeface="Verdana"/>
              </a:rPr>
              <a:t>United Kingdom</a:t>
            </a: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93840" y="1090440"/>
            <a:ext cx="86652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B17-CDDC-41EE-85C1-1795917C588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5254200"/>
            <a:ext cx="84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Thank you for your attention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554200" y="1467000"/>
            <a:ext cx="3818160" cy="37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087-B174-466B-B548-60A15343504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526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Bulgar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9800" y="3467160"/>
            <a:ext cx="532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2146320"/>
          <a:ext cx="5040360" cy="1092240"/>
        </p:xfrm>
        <a:graphic>
          <a:graphicData uri="http://schemas.openxmlformats.org/drawingml/2006/table">
            <a:tbl>
              <a:tblPr/>
              <a:tblGrid>
                <a:gridCol w="576360"/>
                <a:gridCol w="636480"/>
                <a:gridCol w="438120"/>
                <a:gridCol w="522360"/>
                <a:gridCol w="53028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665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439560" y="3933720"/>
            <a:ext cx="778860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6A2-B378-4C98-B8AE-162CB2DDDF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5264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Bulgaria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647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9640" y="2421000"/>
          <a:ext cx="7824960" cy="2940120"/>
        </p:xfrm>
        <a:graphic>
          <a:graphicData uri="http://schemas.openxmlformats.org/drawingml/2006/table">
            <a:tbl>
              <a:tblPr/>
              <a:tblGrid>
                <a:gridCol w="1703520"/>
                <a:gridCol w="61214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rrently using the web for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&amp;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XML interface under developme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urrently testing &amp; preparing for commission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erts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are 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rovi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quests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are no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ing made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of Port notifications is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9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Feb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50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are sent with ETA-ETD relationship not applied correctly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TA&lt;ET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in Apr 09. SSN v1.9.1 will reject those messag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report sent on 24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May 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FE5-903E-46ED-9525-CABD70FA6C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676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Cyprus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719280" cy="433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9800" y="3467160"/>
            <a:ext cx="532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Notifications pattern for Port, Hazmat &amp;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2146320"/>
          <a:ext cx="5145120" cy="1092240"/>
        </p:xfrm>
        <a:graphic>
          <a:graphicData uri="http://schemas.openxmlformats.org/drawingml/2006/table">
            <a:tbl>
              <a:tblPr/>
              <a:tblGrid>
                <a:gridCol w="489240"/>
                <a:gridCol w="723600"/>
                <a:gridCol w="438120"/>
                <a:gridCol w="522360"/>
                <a:gridCol w="635040"/>
                <a:gridCol w="488880"/>
                <a:gridCol w="723960"/>
                <a:gridCol w="515880"/>
                <a:gridCol w="608040"/>
              </a:tblGrid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66560" y="1773360"/>
            <a:ext cx="38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8c7"/>
                </a:solidFill>
                <a:latin typeface="Verdana"/>
              </a:rPr>
              <a:t>SSN Operation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2652" t="0" r="1547" b="0"/>
          <a:stretch/>
        </p:blipFill>
        <p:spPr>
          <a:xfrm>
            <a:off x="492120" y="3879720"/>
            <a:ext cx="7853400" cy="253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698-1521-4974-A518-520B897AC6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66760" y="1141560"/>
            <a:ext cx="287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2200" indent="-1762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Cyprus </a:t>
            </a:r>
            <a:r>
              <a:rPr b="1" lang="en-GB" sz="1000" spc="-1" strike="noStrike">
                <a:solidFill>
                  <a:srgbClr val="0078c7"/>
                </a:solidFill>
                <a:latin typeface="Verdana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9800" y="1176480"/>
            <a:ext cx="719280" cy="43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68360" y="2421000"/>
          <a:ext cx="7920000" cy="3649680"/>
        </p:xfrm>
        <a:graphic>
          <a:graphicData uri="http://schemas.openxmlformats.org/drawingml/2006/table">
            <a:tbl>
              <a:tblPr/>
              <a:tblGrid>
                <a:gridCol w="1847880"/>
                <a:gridCol w="60721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SA assessment on SSN implementation and operation at National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ystem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rt, Ship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Hazm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ler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eady but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rovi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esponses provided in the form of contact details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ifications cover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C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e declared in SSN. Some locations to be clar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ip (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 notifications cover all coa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of Port notifications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Mar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ilability fo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i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in Mar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Hazma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ils only 25% is available in Mar 09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ata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nd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provided without PO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low percentage of unnecessary duplicate notifications and rejected mess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0%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 the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 do not comply with Directive 2002/59/EC as they are sent after vessel’s arrival at por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entAt&gt;ET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0%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Hazma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otifications are sent with ETA-ETD relationship not applied correctly (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TA&lt;ETD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 SSN v1.9.1 will reject those messag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S re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No feedbac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report sent on 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May 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59080" y="1158840"/>
          <a:ext cx="4537080" cy="925560"/>
        </p:xfrm>
        <a:graphic>
          <a:graphicData uri="http://schemas.openxmlformats.org/drawingml/2006/table">
            <a:tbl>
              <a:tblPr/>
              <a:tblGrid>
                <a:gridCol w="438480"/>
                <a:gridCol w="634680"/>
                <a:gridCol w="393840"/>
                <a:gridCol w="488880"/>
                <a:gridCol w="522360"/>
                <a:gridCol w="446040"/>
                <a:gridCol w="635040"/>
                <a:gridCol w="458640"/>
                <a:gridCol w="519120"/>
              </a:tblGrid>
              <a:tr h="23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Not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Request / 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Haz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l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77777"/>
                          </a:solidFill>
                          <a:latin typeface="Arial"/>
                          <a:ea typeface="Arial"/>
                        </a:rPr>
                        <a:t>M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cc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ead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070-349C-4269-9CB5-EF80C4DADA0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5:18:51Z</dcterms:created>
  <dc:creator>Marta Lima</dc:creator>
  <dc:description/>
  <dc:language>en-US</dc:language>
  <cp:lastModifiedBy>Rute FERNANDES</cp:lastModifiedBy>
  <cp:lastPrinted>2004-03-26T09:05:49Z</cp:lastPrinted>
  <dcterms:modified xsi:type="dcterms:W3CDTF">2009-06-24T12:14:11Z</dcterms:modified>
  <cp:revision>337</cp:revision>
  <dc:subject>AIS notification</dc:subject>
  <dc:title>ISWG 3 2 1</dc:title>
</cp:coreProperties>
</file>